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C61-0593-4699-BB94-1A3F8A64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4931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00B-856A-4E94-AF7E-2FF9096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5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99B-09BA-4F6F-B8CE-1259D15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36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64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36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64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70C-5F4B-4C21-A24C-D09061DB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361-8A9D-4703-90D7-347C57C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0E1-44B0-46A7-8EBF-B48B004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D63-FA5F-4CD2-A45C-91778A9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6D1-D580-4CB9-B337-FF736A5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10680"/>
            <a:ext cx="90489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916-8D57-492F-A628-67F2710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EF3-B62A-491B-A19A-8565DB7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5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B98-8664-40A6-BE31-0FA36D3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095-602D-44FE-8582-729563A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7078320"/>
            <a:ext cx="234324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7078320"/>
            <a:ext cx="318168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7078320"/>
            <a:ext cx="234324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11B089-1EAA-4129-8D25-F474888B59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5400" y="4647960"/>
            <a:ext cx="9297720" cy="2361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ld McDonald Had a </a:t>
            </a:r>
            <a:r>
              <a:rPr b="1" lang="en-US" sz="4000" spc="-1" strike="noStrike">
                <a:solidFill>
                  <a:srgbClr val="cc00cc"/>
                </a:solidFill>
                <a:latin typeface="Tahoma"/>
              </a:rPr>
              <a:t>(insert top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ahoma"/>
              </a:rPr>
              <a:t>(Copy pages 2-4 for each /personobject you want Old McDonald to have on the f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295280"/>
            <a:ext cx="5105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for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9470880" cy="1452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ld McDonald had a </a:t>
            </a:r>
            <a:r>
              <a:rPr b="1" lang="en-US" sz="4000" spc="-1" strike="noStrike">
                <a:solidFill>
                  <a:srgbClr val="cc00cc"/>
                </a:solidFill>
                <a:latin typeface="Tahoma"/>
              </a:rPr>
              <a:t>(insert wo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-I-E-I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9040" y="106668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66320" y="5409720"/>
            <a:ext cx="7543800" cy="1814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nd on that farm he had a…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066680"/>
            <a:ext cx="3353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 or keep question 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7760" y="1554120"/>
            <a:ext cx="4442040" cy="18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(insert name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-I-E-I-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749840"/>
            <a:ext cx="947412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With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here and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, t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everyw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Old McDonald had a </a:t>
            </a:r>
            <a:r>
              <a:rPr b="0" lang="en-US" sz="3100" spc="-1" strike="noStrike">
                <a:solidFill>
                  <a:srgbClr val="cc00cc"/>
                </a:solidFill>
                <a:latin typeface="Parade"/>
              </a:rPr>
              <a:t>(insert nam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E-I-E-I-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2193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0292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3:53:26Z</dcterms:created>
  <dc:creator>ppp</dc:creator>
  <dc:description/>
  <dc:language>en-US</dc:language>
  <cp:lastModifiedBy>Patti Porto</cp:lastModifiedBy>
  <dcterms:modified xsi:type="dcterms:W3CDTF">2008-01-24T15:35:03Z</dcterms:modified>
  <cp:revision>18</cp:revision>
  <dc:subject/>
  <dc:title>Slide 1</dc:title>
</cp:coreProperties>
</file>